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7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EC8-9A5A-417E-AAFC-F310B4C1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538-3F19-4718-836D-9F57C9D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4C3-A95F-4918-9591-BECD2042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9F3-2673-423B-BFE2-251F0D83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7A6-A878-4C0B-B976-C97ABEE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ABB-5CCF-4186-88B1-514133BA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0A7-2CE2-4966-B512-8A16538C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FAB-46EF-457E-9AFA-5612A08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D75-BD14-45F4-8F78-1A269DE1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E31-2933-4484-B78B-6E7CB19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E73-B2BC-4630-A9F5-6AF21C8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F6A-1A84-471F-A8D1-D2D7FA3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8BAA-7126-48FE-9012-6A45B8579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0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TRAFFICO GIORNALIERO ME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raffico giornaliero medio è il parametro fondamentale con il quale viene  quantificato il traffico sulle s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valore viene calcolato con “la formula di Ginevra”, utilizzata dall’ANAS dal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TOTALE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=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+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d 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ono a loro volta funzione del TGM rilevato in ben precisi giorni dell’anno rispettivamente dalle 7.00 alle 19.00 e dalle 19.00 alle 7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1600200"/>
          <a:ext cx="7391520" cy="408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00200"/>
                    <a:ext cx="73915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47920"/>
          <a:ext cx="7772400" cy="421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77724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291456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447920"/>
                    <a:ext cx="2914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57600" y="1447920"/>
          <a:ext cx="2666880" cy="204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447920"/>
                    <a:ext cx="26668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477120" y="1523880"/>
          <a:ext cx="2352600" cy="1905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1523880"/>
                    <a:ext cx="2352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3520" y="3581280"/>
          <a:ext cx="2666880" cy="2000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581280"/>
                    <a:ext cx="266688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9880" y="3581280"/>
          <a:ext cx="2590920" cy="2025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581280"/>
                    <a:ext cx="259092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77120" y="3657600"/>
          <a:ext cx="2438280" cy="18716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3657600"/>
                    <a:ext cx="2438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447920"/>
          <a:ext cx="250488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504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00400" y="3657600"/>
          <a:ext cx="27716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657600"/>
                    <a:ext cx="2771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95880" y="3581280"/>
          <a:ext cx="2648160" cy="2000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581280"/>
                    <a:ext cx="26481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48120" y="1447920"/>
          <a:ext cx="2628720" cy="19810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1447920"/>
                    <a:ext cx="2628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095880" y="1447920"/>
          <a:ext cx="2505240" cy="1971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447920"/>
                    <a:ext cx="25052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920" y="3733920"/>
          <a:ext cx="2733480" cy="1990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733920"/>
                    <a:ext cx="2733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1676520"/>
          <a:ext cx="2610000" cy="200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76520"/>
                    <a:ext cx="261000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638680" y="1676520"/>
          <a:ext cx="2629080" cy="20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676520"/>
                    <a:ext cx="26290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91320" y="3886200"/>
          <a:ext cx="2485800" cy="2009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24858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95280" y="4038480"/>
          <a:ext cx="2733840" cy="1981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038480"/>
                    <a:ext cx="2733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LE CATEGORIE VEICO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I dati di traffico rilevati dall’ANAS sono disaggregati per categorie di vei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e categorie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motove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tture con meno di 10 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inf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sup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trattori con semi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icoli e insieme di autoveicoli accoppiati destinati a traspor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eccezionali o adibiti ad usi spe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eicoli agr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iene definito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leggero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il TGM dato dalla somma dei TGM relativi alle prime tre categ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somma dei TGM relativi alle altre categorie fornisce il valore del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pes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RILE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’ubicazione dei posti di rilevamento ha formato oggetto di accurato studio per escludere le zone interessate in modo preminente dal traffic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distanza fra i posti di rilevamento varia a seconda della strada statale e oscilla mediamente fra i 30 ed i 5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741996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741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1371600"/>
          <a:ext cx="6473880" cy="460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371600"/>
                    <a:ext cx="64738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1447920"/>
          <a:ext cx="7467480" cy="425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74674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981080"/>
          <a:ext cx="7507080" cy="35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981080"/>
                    <a:ext cx="75070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523880"/>
          <a:ext cx="7088400" cy="420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708840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414440"/>
          <a:ext cx="7696080" cy="424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14440"/>
                    <a:ext cx="7696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0:15:44Z</dcterms:created>
  <dc:creator>ut14183</dc:creator>
  <dc:description/>
  <dc:language>en-US</dc:language>
  <cp:lastModifiedBy>AMB-EMISS</cp:lastModifiedBy>
  <cp:lastPrinted>2001-06-13T13:50:46Z</cp:lastPrinted>
  <dcterms:modified xsi:type="dcterms:W3CDTF">2001-06-13T15:30:04Z</dcterms:modified>
  <cp:revision>22</cp:revision>
  <dc:subject/>
  <dc:title>IL TGM</dc:title>
</cp:coreProperties>
</file>